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86400" cy="137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C98B-E4B2-4921-A917-94CCD10A5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680" y="5040"/>
            <a:ext cx="4937040" cy="32868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ctr">
            <a:noAutofit/>
          </a:bodyPr>
          <a:p>
            <a:pPr indent="0" algn="ctr">
              <a:buNone/>
              <a:tabLst>
                <a:tab algn="l" pos="0"/>
                <a:tab algn="l" pos="392040"/>
                <a:tab algn="l" pos="784080"/>
                <a:tab algn="l" pos="1176480"/>
                <a:tab algn="l" pos="1568520"/>
                <a:tab algn="l" pos="1960560"/>
                <a:tab algn="l" pos="2352600"/>
                <a:tab algn="l" pos="2744640"/>
                <a:tab algn="l" pos="3137040"/>
                <a:tab algn="l" pos="3529080"/>
                <a:tab algn="l" pos="3921120"/>
                <a:tab algn="l" pos="4313160"/>
                <a:tab algn="l" pos="4705200"/>
                <a:tab algn="l" pos="5097600"/>
                <a:tab algn="l" pos="5489640"/>
                <a:tab algn="l" pos="5881680"/>
                <a:tab algn="l" pos="6273720"/>
                <a:tab algn="l" pos="6665760"/>
                <a:tab algn="l" pos="7058160"/>
                <a:tab algn="l" pos="7450200"/>
                <a:tab algn="l" pos="7842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680" y="320400"/>
            <a:ext cx="4937040" cy="43128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92040"/>
                <a:tab algn="l" pos="784080"/>
                <a:tab algn="l" pos="1176480"/>
                <a:tab algn="l" pos="1568520"/>
                <a:tab algn="l" pos="1960560"/>
                <a:tab algn="l" pos="2352600"/>
                <a:tab algn="l" pos="2744640"/>
                <a:tab algn="l" pos="3137040"/>
                <a:tab algn="l" pos="3529080"/>
                <a:tab algn="l" pos="3921120"/>
                <a:tab algn="l" pos="4313160"/>
                <a:tab algn="l" pos="4705200"/>
                <a:tab algn="l" pos="5097600"/>
                <a:tab algn="l" pos="5489640"/>
                <a:tab algn="l" pos="5881680"/>
                <a:tab algn="l" pos="6273720"/>
                <a:tab algn="l" pos="6665760"/>
                <a:tab algn="l" pos="7058160"/>
                <a:tab algn="l" pos="7450200"/>
                <a:tab algn="l" pos="7842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680" y="793080"/>
            <a:ext cx="4937040" cy="43128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92040"/>
                <a:tab algn="l" pos="784080"/>
                <a:tab algn="l" pos="1176480"/>
                <a:tab algn="l" pos="1568520"/>
                <a:tab algn="l" pos="1960560"/>
                <a:tab algn="l" pos="2352600"/>
                <a:tab algn="l" pos="2744640"/>
                <a:tab algn="l" pos="3137040"/>
                <a:tab algn="l" pos="3529080"/>
                <a:tab algn="l" pos="3921120"/>
                <a:tab algn="l" pos="4313160"/>
                <a:tab algn="l" pos="4705200"/>
                <a:tab algn="l" pos="5097600"/>
                <a:tab algn="l" pos="5489640"/>
                <a:tab algn="l" pos="5881680"/>
                <a:tab algn="l" pos="6273720"/>
                <a:tab algn="l" pos="6665760"/>
                <a:tab algn="l" pos="7058160"/>
                <a:tab algn="l" pos="7450200"/>
                <a:tab algn="l" pos="7842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66D3-F9DF-4F21-9515-56032DAC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680" y="5040"/>
            <a:ext cx="4937040" cy="32868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ctr">
            <a:noAutofit/>
          </a:bodyPr>
          <a:p>
            <a:pPr indent="0" algn="ctr">
              <a:buNone/>
              <a:tabLst>
                <a:tab algn="l" pos="0"/>
                <a:tab algn="l" pos="392040"/>
                <a:tab algn="l" pos="784080"/>
                <a:tab algn="l" pos="1176480"/>
                <a:tab algn="l" pos="1568520"/>
                <a:tab algn="l" pos="1960560"/>
                <a:tab algn="l" pos="2352600"/>
                <a:tab algn="l" pos="2744640"/>
                <a:tab algn="l" pos="3137040"/>
                <a:tab algn="l" pos="3529080"/>
                <a:tab algn="l" pos="3921120"/>
                <a:tab algn="l" pos="4313160"/>
                <a:tab algn="l" pos="4705200"/>
                <a:tab algn="l" pos="5097600"/>
                <a:tab algn="l" pos="5489640"/>
                <a:tab algn="l" pos="5881680"/>
                <a:tab algn="l" pos="6273720"/>
                <a:tab algn="l" pos="6665760"/>
                <a:tab algn="l" pos="7058160"/>
                <a:tab algn="l" pos="7450200"/>
                <a:tab algn="l" pos="7842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680" y="320400"/>
            <a:ext cx="2409120" cy="43128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92040"/>
                <a:tab algn="l" pos="784080"/>
                <a:tab algn="l" pos="1176480"/>
                <a:tab algn="l" pos="1568520"/>
                <a:tab algn="l" pos="1960560"/>
                <a:tab algn="l" pos="2352600"/>
                <a:tab algn="l" pos="2744640"/>
                <a:tab algn="l" pos="3137040"/>
                <a:tab algn="l" pos="3529080"/>
                <a:tab algn="l" pos="3921120"/>
                <a:tab algn="l" pos="4313160"/>
                <a:tab algn="l" pos="4705200"/>
                <a:tab algn="l" pos="5097600"/>
                <a:tab algn="l" pos="5489640"/>
                <a:tab algn="l" pos="5881680"/>
                <a:tab algn="l" pos="6273720"/>
                <a:tab algn="l" pos="6665760"/>
                <a:tab algn="l" pos="7058160"/>
                <a:tab algn="l" pos="7450200"/>
                <a:tab algn="l" pos="7842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04760" y="320400"/>
            <a:ext cx="2409120" cy="43128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92040"/>
                <a:tab algn="l" pos="784080"/>
                <a:tab algn="l" pos="1176480"/>
                <a:tab algn="l" pos="1568520"/>
                <a:tab algn="l" pos="1960560"/>
                <a:tab algn="l" pos="2352600"/>
                <a:tab algn="l" pos="2744640"/>
                <a:tab algn="l" pos="3137040"/>
                <a:tab algn="l" pos="3529080"/>
                <a:tab algn="l" pos="3921120"/>
                <a:tab algn="l" pos="4313160"/>
                <a:tab algn="l" pos="4705200"/>
                <a:tab algn="l" pos="5097600"/>
                <a:tab algn="l" pos="5489640"/>
                <a:tab algn="l" pos="5881680"/>
                <a:tab algn="l" pos="6273720"/>
                <a:tab algn="l" pos="6665760"/>
                <a:tab algn="l" pos="7058160"/>
                <a:tab algn="l" pos="7450200"/>
                <a:tab algn="l" pos="7842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680" y="793080"/>
            <a:ext cx="2409120" cy="43128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92040"/>
                <a:tab algn="l" pos="784080"/>
                <a:tab algn="l" pos="1176480"/>
                <a:tab algn="l" pos="1568520"/>
                <a:tab algn="l" pos="1960560"/>
                <a:tab algn="l" pos="2352600"/>
                <a:tab algn="l" pos="2744640"/>
                <a:tab algn="l" pos="3137040"/>
                <a:tab algn="l" pos="3529080"/>
                <a:tab algn="l" pos="3921120"/>
                <a:tab algn="l" pos="4313160"/>
                <a:tab algn="l" pos="4705200"/>
                <a:tab algn="l" pos="5097600"/>
                <a:tab algn="l" pos="5489640"/>
                <a:tab algn="l" pos="5881680"/>
                <a:tab algn="l" pos="6273720"/>
                <a:tab algn="l" pos="6665760"/>
                <a:tab algn="l" pos="7058160"/>
                <a:tab algn="l" pos="7450200"/>
                <a:tab algn="l" pos="7842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04760" y="793080"/>
            <a:ext cx="2409120" cy="43128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92040"/>
                <a:tab algn="l" pos="784080"/>
                <a:tab algn="l" pos="1176480"/>
                <a:tab algn="l" pos="1568520"/>
                <a:tab algn="l" pos="1960560"/>
                <a:tab algn="l" pos="2352600"/>
                <a:tab algn="l" pos="2744640"/>
                <a:tab algn="l" pos="3137040"/>
                <a:tab algn="l" pos="3529080"/>
                <a:tab algn="l" pos="3921120"/>
                <a:tab algn="l" pos="4313160"/>
                <a:tab algn="l" pos="4705200"/>
                <a:tab algn="l" pos="5097600"/>
                <a:tab algn="l" pos="5489640"/>
                <a:tab algn="l" pos="5881680"/>
                <a:tab algn="l" pos="6273720"/>
                <a:tab algn="l" pos="6665760"/>
                <a:tab algn="l" pos="7058160"/>
                <a:tab algn="l" pos="7450200"/>
                <a:tab algn="l" pos="7842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C147-D10B-4C81-8944-5FB2E0E76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680" y="5040"/>
            <a:ext cx="4937040" cy="32868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ctr">
            <a:noAutofit/>
          </a:bodyPr>
          <a:p>
            <a:pPr indent="0" algn="ctr">
              <a:buNone/>
              <a:tabLst>
                <a:tab algn="l" pos="0"/>
                <a:tab algn="l" pos="392040"/>
                <a:tab algn="l" pos="784080"/>
                <a:tab algn="l" pos="1176480"/>
                <a:tab algn="l" pos="1568520"/>
                <a:tab algn="l" pos="1960560"/>
                <a:tab algn="l" pos="2352600"/>
                <a:tab algn="l" pos="2744640"/>
                <a:tab algn="l" pos="3137040"/>
                <a:tab algn="l" pos="3529080"/>
                <a:tab algn="l" pos="3921120"/>
                <a:tab algn="l" pos="4313160"/>
                <a:tab algn="l" pos="4705200"/>
                <a:tab algn="l" pos="5097600"/>
                <a:tab algn="l" pos="5489640"/>
                <a:tab algn="l" pos="5881680"/>
                <a:tab algn="l" pos="6273720"/>
                <a:tab algn="l" pos="6665760"/>
                <a:tab algn="l" pos="7058160"/>
                <a:tab algn="l" pos="7450200"/>
                <a:tab algn="l" pos="7842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680" y="320400"/>
            <a:ext cx="1589400" cy="43128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92040"/>
                <a:tab algn="l" pos="784080"/>
                <a:tab algn="l" pos="1176480"/>
                <a:tab algn="l" pos="1568520"/>
                <a:tab algn="l" pos="1960560"/>
                <a:tab algn="l" pos="2352600"/>
                <a:tab algn="l" pos="2744640"/>
                <a:tab algn="l" pos="3137040"/>
                <a:tab algn="l" pos="3529080"/>
                <a:tab algn="l" pos="3921120"/>
                <a:tab algn="l" pos="4313160"/>
                <a:tab algn="l" pos="4705200"/>
                <a:tab algn="l" pos="5097600"/>
                <a:tab algn="l" pos="5489640"/>
                <a:tab algn="l" pos="5881680"/>
                <a:tab algn="l" pos="6273720"/>
                <a:tab algn="l" pos="6665760"/>
                <a:tab algn="l" pos="7058160"/>
                <a:tab algn="l" pos="7450200"/>
                <a:tab algn="l" pos="7842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44000" y="320400"/>
            <a:ext cx="1589400" cy="43128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92040"/>
                <a:tab algn="l" pos="784080"/>
                <a:tab algn="l" pos="1176480"/>
                <a:tab algn="l" pos="1568520"/>
                <a:tab algn="l" pos="1960560"/>
                <a:tab algn="l" pos="2352600"/>
                <a:tab algn="l" pos="2744640"/>
                <a:tab algn="l" pos="3137040"/>
                <a:tab algn="l" pos="3529080"/>
                <a:tab algn="l" pos="3921120"/>
                <a:tab algn="l" pos="4313160"/>
                <a:tab algn="l" pos="4705200"/>
                <a:tab algn="l" pos="5097600"/>
                <a:tab algn="l" pos="5489640"/>
                <a:tab algn="l" pos="5881680"/>
                <a:tab algn="l" pos="6273720"/>
                <a:tab algn="l" pos="6665760"/>
                <a:tab algn="l" pos="7058160"/>
                <a:tab algn="l" pos="7450200"/>
                <a:tab algn="l" pos="7842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13320" y="320400"/>
            <a:ext cx="1589400" cy="43128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92040"/>
                <a:tab algn="l" pos="784080"/>
                <a:tab algn="l" pos="1176480"/>
                <a:tab algn="l" pos="1568520"/>
                <a:tab algn="l" pos="1960560"/>
                <a:tab algn="l" pos="2352600"/>
                <a:tab algn="l" pos="2744640"/>
                <a:tab algn="l" pos="3137040"/>
                <a:tab algn="l" pos="3529080"/>
                <a:tab algn="l" pos="3921120"/>
                <a:tab algn="l" pos="4313160"/>
                <a:tab algn="l" pos="4705200"/>
                <a:tab algn="l" pos="5097600"/>
                <a:tab algn="l" pos="5489640"/>
                <a:tab algn="l" pos="5881680"/>
                <a:tab algn="l" pos="6273720"/>
                <a:tab algn="l" pos="6665760"/>
                <a:tab algn="l" pos="7058160"/>
                <a:tab algn="l" pos="7450200"/>
                <a:tab algn="l" pos="7842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680" y="793080"/>
            <a:ext cx="1589400" cy="43128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92040"/>
                <a:tab algn="l" pos="784080"/>
                <a:tab algn="l" pos="1176480"/>
                <a:tab algn="l" pos="1568520"/>
                <a:tab algn="l" pos="1960560"/>
                <a:tab algn="l" pos="2352600"/>
                <a:tab algn="l" pos="2744640"/>
                <a:tab algn="l" pos="3137040"/>
                <a:tab algn="l" pos="3529080"/>
                <a:tab algn="l" pos="3921120"/>
                <a:tab algn="l" pos="4313160"/>
                <a:tab algn="l" pos="4705200"/>
                <a:tab algn="l" pos="5097600"/>
                <a:tab algn="l" pos="5489640"/>
                <a:tab algn="l" pos="5881680"/>
                <a:tab algn="l" pos="6273720"/>
                <a:tab algn="l" pos="6665760"/>
                <a:tab algn="l" pos="7058160"/>
                <a:tab algn="l" pos="7450200"/>
                <a:tab algn="l" pos="7842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44000" y="793080"/>
            <a:ext cx="1589400" cy="43128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92040"/>
                <a:tab algn="l" pos="784080"/>
                <a:tab algn="l" pos="1176480"/>
                <a:tab algn="l" pos="1568520"/>
                <a:tab algn="l" pos="1960560"/>
                <a:tab algn="l" pos="2352600"/>
                <a:tab algn="l" pos="2744640"/>
                <a:tab algn="l" pos="3137040"/>
                <a:tab algn="l" pos="3529080"/>
                <a:tab algn="l" pos="3921120"/>
                <a:tab algn="l" pos="4313160"/>
                <a:tab algn="l" pos="4705200"/>
                <a:tab algn="l" pos="5097600"/>
                <a:tab algn="l" pos="5489640"/>
                <a:tab algn="l" pos="5881680"/>
                <a:tab algn="l" pos="6273720"/>
                <a:tab algn="l" pos="6665760"/>
                <a:tab algn="l" pos="7058160"/>
                <a:tab algn="l" pos="7450200"/>
                <a:tab algn="l" pos="7842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13320" y="793080"/>
            <a:ext cx="1589400" cy="43128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92040"/>
                <a:tab algn="l" pos="784080"/>
                <a:tab algn="l" pos="1176480"/>
                <a:tab algn="l" pos="1568520"/>
                <a:tab algn="l" pos="1960560"/>
                <a:tab algn="l" pos="2352600"/>
                <a:tab algn="l" pos="2744640"/>
                <a:tab algn="l" pos="3137040"/>
                <a:tab algn="l" pos="3529080"/>
                <a:tab algn="l" pos="3921120"/>
                <a:tab algn="l" pos="4313160"/>
                <a:tab algn="l" pos="4705200"/>
                <a:tab algn="l" pos="5097600"/>
                <a:tab algn="l" pos="5489640"/>
                <a:tab algn="l" pos="5881680"/>
                <a:tab algn="l" pos="6273720"/>
                <a:tab algn="l" pos="6665760"/>
                <a:tab algn="l" pos="7058160"/>
                <a:tab algn="l" pos="7450200"/>
                <a:tab algn="l" pos="7842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58F8-FD06-46FE-A0D7-02209CDC3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680" y="5040"/>
            <a:ext cx="4937040" cy="32868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ctr">
            <a:noAutofit/>
          </a:bodyPr>
          <a:p>
            <a:pPr indent="0" algn="ctr">
              <a:buNone/>
              <a:tabLst>
                <a:tab algn="l" pos="0"/>
                <a:tab algn="l" pos="392040"/>
                <a:tab algn="l" pos="784080"/>
                <a:tab algn="l" pos="1176480"/>
                <a:tab algn="l" pos="1568520"/>
                <a:tab algn="l" pos="1960560"/>
                <a:tab algn="l" pos="2352600"/>
                <a:tab algn="l" pos="2744640"/>
                <a:tab algn="l" pos="3137040"/>
                <a:tab algn="l" pos="3529080"/>
                <a:tab algn="l" pos="3921120"/>
                <a:tab algn="l" pos="4313160"/>
                <a:tab algn="l" pos="4705200"/>
                <a:tab algn="l" pos="5097600"/>
                <a:tab algn="l" pos="5489640"/>
                <a:tab algn="l" pos="5881680"/>
                <a:tab algn="l" pos="6273720"/>
                <a:tab algn="l" pos="6665760"/>
                <a:tab algn="l" pos="7058160"/>
                <a:tab algn="l" pos="7450200"/>
                <a:tab algn="l" pos="7842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680" y="320400"/>
            <a:ext cx="4937040" cy="9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392040"/>
                <a:tab algn="l" pos="784080"/>
                <a:tab algn="l" pos="1176480"/>
                <a:tab algn="l" pos="1568520"/>
                <a:tab algn="l" pos="1960560"/>
                <a:tab algn="l" pos="2352600"/>
                <a:tab algn="l" pos="2744640"/>
                <a:tab algn="l" pos="3137040"/>
                <a:tab algn="l" pos="3529080"/>
                <a:tab algn="l" pos="3921120"/>
                <a:tab algn="l" pos="4313160"/>
                <a:tab algn="l" pos="4705200"/>
                <a:tab algn="l" pos="5097600"/>
                <a:tab algn="l" pos="5489640"/>
                <a:tab algn="l" pos="5881680"/>
                <a:tab algn="l" pos="6273720"/>
                <a:tab algn="l" pos="6665760"/>
                <a:tab algn="l" pos="7058160"/>
                <a:tab algn="l" pos="7450200"/>
                <a:tab algn="l" pos="7842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5FF0-4CA4-4521-B15B-5262C3BA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680" y="5040"/>
            <a:ext cx="4937040" cy="32868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ctr">
            <a:noAutofit/>
          </a:bodyPr>
          <a:p>
            <a:pPr indent="0" algn="ctr">
              <a:buNone/>
              <a:tabLst>
                <a:tab algn="l" pos="0"/>
                <a:tab algn="l" pos="392040"/>
                <a:tab algn="l" pos="784080"/>
                <a:tab algn="l" pos="1176480"/>
                <a:tab algn="l" pos="1568520"/>
                <a:tab algn="l" pos="1960560"/>
                <a:tab algn="l" pos="2352600"/>
                <a:tab algn="l" pos="2744640"/>
                <a:tab algn="l" pos="3137040"/>
                <a:tab algn="l" pos="3529080"/>
                <a:tab algn="l" pos="3921120"/>
                <a:tab algn="l" pos="4313160"/>
                <a:tab algn="l" pos="4705200"/>
                <a:tab algn="l" pos="5097600"/>
                <a:tab algn="l" pos="5489640"/>
                <a:tab algn="l" pos="5881680"/>
                <a:tab algn="l" pos="6273720"/>
                <a:tab algn="l" pos="6665760"/>
                <a:tab algn="l" pos="7058160"/>
                <a:tab algn="l" pos="7450200"/>
                <a:tab algn="l" pos="7842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680" y="320400"/>
            <a:ext cx="4937040" cy="90468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92040"/>
                <a:tab algn="l" pos="784080"/>
                <a:tab algn="l" pos="1176480"/>
                <a:tab algn="l" pos="1568520"/>
                <a:tab algn="l" pos="1960560"/>
                <a:tab algn="l" pos="2352600"/>
                <a:tab algn="l" pos="2744640"/>
                <a:tab algn="l" pos="3137040"/>
                <a:tab algn="l" pos="3529080"/>
                <a:tab algn="l" pos="3921120"/>
                <a:tab algn="l" pos="4313160"/>
                <a:tab algn="l" pos="4705200"/>
                <a:tab algn="l" pos="5097600"/>
                <a:tab algn="l" pos="5489640"/>
                <a:tab algn="l" pos="5881680"/>
                <a:tab algn="l" pos="6273720"/>
                <a:tab algn="l" pos="6665760"/>
                <a:tab algn="l" pos="7058160"/>
                <a:tab algn="l" pos="7450200"/>
                <a:tab algn="l" pos="7842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71FA-F5F8-4812-9485-3BBBD758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680" y="5040"/>
            <a:ext cx="4937040" cy="32868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ctr">
            <a:noAutofit/>
          </a:bodyPr>
          <a:p>
            <a:pPr indent="0" algn="ctr">
              <a:buNone/>
              <a:tabLst>
                <a:tab algn="l" pos="0"/>
                <a:tab algn="l" pos="392040"/>
                <a:tab algn="l" pos="784080"/>
                <a:tab algn="l" pos="1176480"/>
                <a:tab algn="l" pos="1568520"/>
                <a:tab algn="l" pos="1960560"/>
                <a:tab algn="l" pos="2352600"/>
                <a:tab algn="l" pos="2744640"/>
                <a:tab algn="l" pos="3137040"/>
                <a:tab algn="l" pos="3529080"/>
                <a:tab algn="l" pos="3921120"/>
                <a:tab algn="l" pos="4313160"/>
                <a:tab algn="l" pos="4705200"/>
                <a:tab algn="l" pos="5097600"/>
                <a:tab algn="l" pos="5489640"/>
                <a:tab algn="l" pos="5881680"/>
                <a:tab algn="l" pos="6273720"/>
                <a:tab algn="l" pos="6665760"/>
                <a:tab algn="l" pos="7058160"/>
                <a:tab algn="l" pos="7450200"/>
                <a:tab algn="l" pos="7842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680" y="320400"/>
            <a:ext cx="2409120" cy="90468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92040"/>
                <a:tab algn="l" pos="784080"/>
                <a:tab algn="l" pos="1176480"/>
                <a:tab algn="l" pos="1568520"/>
                <a:tab algn="l" pos="1960560"/>
                <a:tab algn="l" pos="2352600"/>
                <a:tab algn="l" pos="2744640"/>
                <a:tab algn="l" pos="3137040"/>
                <a:tab algn="l" pos="3529080"/>
                <a:tab algn="l" pos="3921120"/>
                <a:tab algn="l" pos="4313160"/>
                <a:tab algn="l" pos="4705200"/>
                <a:tab algn="l" pos="5097600"/>
                <a:tab algn="l" pos="5489640"/>
                <a:tab algn="l" pos="5881680"/>
                <a:tab algn="l" pos="6273720"/>
                <a:tab algn="l" pos="6665760"/>
                <a:tab algn="l" pos="7058160"/>
                <a:tab algn="l" pos="7450200"/>
                <a:tab algn="l" pos="7842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04760" y="320400"/>
            <a:ext cx="2409120" cy="90468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92040"/>
                <a:tab algn="l" pos="784080"/>
                <a:tab algn="l" pos="1176480"/>
                <a:tab algn="l" pos="1568520"/>
                <a:tab algn="l" pos="1960560"/>
                <a:tab algn="l" pos="2352600"/>
                <a:tab algn="l" pos="2744640"/>
                <a:tab algn="l" pos="3137040"/>
                <a:tab algn="l" pos="3529080"/>
                <a:tab algn="l" pos="3921120"/>
                <a:tab algn="l" pos="4313160"/>
                <a:tab algn="l" pos="4705200"/>
                <a:tab algn="l" pos="5097600"/>
                <a:tab algn="l" pos="5489640"/>
                <a:tab algn="l" pos="5881680"/>
                <a:tab algn="l" pos="6273720"/>
                <a:tab algn="l" pos="6665760"/>
                <a:tab algn="l" pos="7058160"/>
                <a:tab algn="l" pos="7450200"/>
                <a:tab algn="l" pos="7842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A937-7865-4281-BED8-74C9E710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680" y="5040"/>
            <a:ext cx="4937040" cy="32868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ctr">
            <a:noAutofit/>
          </a:bodyPr>
          <a:p>
            <a:pPr indent="0" algn="ctr">
              <a:buNone/>
              <a:tabLst>
                <a:tab algn="l" pos="0"/>
                <a:tab algn="l" pos="392040"/>
                <a:tab algn="l" pos="784080"/>
                <a:tab algn="l" pos="1176480"/>
                <a:tab algn="l" pos="1568520"/>
                <a:tab algn="l" pos="1960560"/>
                <a:tab algn="l" pos="2352600"/>
                <a:tab algn="l" pos="2744640"/>
                <a:tab algn="l" pos="3137040"/>
                <a:tab algn="l" pos="3529080"/>
                <a:tab algn="l" pos="3921120"/>
                <a:tab algn="l" pos="4313160"/>
                <a:tab algn="l" pos="4705200"/>
                <a:tab algn="l" pos="5097600"/>
                <a:tab algn="l" pos="5489640"/>
                <a:tab algn="l" pos="5881680"/>
                <a:tab algn="l" pos="6273720"/>
                <a:tab algn="l" pos="6665760"/>
                <a:tab algn="l" pos="7058160"/>
                <a:tab algn="l" pos="7450200"/>
                <a:tab algn="l" pos="7842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4BA1-9037-40E3-BC30-F7370AA4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680" y="55080"/>
            <a:ext cx="4937040" cy="10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392040"/>
                <a:tab algn="l" pos="784080"/>
                <a:tab algn="l" pos="1176480"/>
                <a:tab algn="l" pos="1568520"/>
                <a:tab algn="l" pos="1960560"/>
                <a:tab algn="l" pos="2352600"/>
                <a:tab algn="l" pos="2744640"/>
                <a:tab algn="l" pos="3137040"/>
                <a:tab algn="l" pos="3529080"/>
                <a:tab algn="l" pos="3921120"/>
                <a:tab algn="l" pos="4313160"/>
                <a:tab algn="l" pos="4705200"/>
                <a:tab algn="l" pos="5097600"/>
                <a:tab algn="l" pos="5489640"/>
                <a:tab algn="l" pos="5881680"/>
                <a:tab algn="l" pos="6273720"/>
                <a:tab algn="l" pos="6665760"/>
                <a:tab algn="l" pos="7058160"/>
                <a:tab algn="l" pos="7450200"/>
                <a:tab algn="l" pos="7842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46DF-13ED-41DC-948C-738507B4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680" y="5040"/>
            <a:ext cx="4937040" cy="32868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ctr">
            <a:noAutofit/>
          </a:bodyPr>
          <a:p>
            <a:pPr indent="0" algn="ctr">
              <a:buNone/>
              <a:tabLst>
                <a:tab algn="l" pos="0"/>
                <a:tab algn="l" pos="392040"/>
                <a:tab algn="l" pos="784080"/>
                <a:tab algn="l" pos="1176480"/>
                <a:tab algn="l" pos="1568520"/>
                <a:tab algn="l" pos="1960560"/>
                <a:tab algn="l" pos="2352600"/>
                <a:tab algn="l" pos="2744640"/>
                <a:tab algn="l" pos="3137040"/>
                <a:tab algn="l" pos="3529080"/>
                <a:tab algn="l" pos="3921120"/>
                <a:tab algn="l" pos="4313160"/>
                <a:tab algn="l" pos="4705200"/>
                <a:tab algn="l" pos="5097600"/>
                <a:tab algn="l" pos="5489640"/>
                <a:tab algn="l" pos="5881680"/>
                <a:tab algn="l" pos="6273720"/>
                <a:tab algn="l" pos="6665760"/>
                <a:tab algn="l" pos="7058160"/>
                <a:tab algn="l" pos="7450200"/>
                <a:tab algn="l" pos="7842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680" y="320400"/>
            <a:ext cx="2409120" cy="43128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92040"/>
                <a:tab algn="l" pos="784080"/>
                <a:tab algn="l" pos="1176480"/>
                <a:tab algn="l" pos="1568520"/>
                <a:tab algn="l" pos="1960560"/>
                <a:tab algn="l" pos="2352600"/>
                <a:tab algn="l" pos="2744640"/>
                <a:tab algn="l" pos="3137040"/>
                <a:tab algn="l" pos="3529080"/>
                <a:tab algn="l" pos="3921120"/>
                <a:tab algn="l" pos="4313160"/>
                <a:tab algn="l" pos="4705200"/>
                <a:tab algn="l" pos="5097600"/>
                <a:tab algn="l" pos="5489640"/>
                <a:tab algn="l" pos="5881680"/>
                <a:tab algn="l" pos="6273720"/>
                <a:tab algn="l" pos="6665760"/>
                <a:tab algn="l" pos="7058160"/>
                <a:tab algn="l" pos="7450200"/>
                <a:tab algn="l" pos="7842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04760" y="320400"/>
            <a:ext cx="2409120" cy="90468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92040"/>
                <a:tab algn="l" pos="784080"/>
                <a:tab algn="l" pos="1176480"/>
                <a:tab algn="l" pos="1568520"/>
                <a:tab algn="l" pos="1960560"/>
                <a:tab algn="l" pos="2352600"/>
                <a:tab algn="l" pos="2744640"/>
                <a:tab algn="l" pos="3137040"/>
                <a:tab algn="l" pos="3529080"/>
                <a:tab algn="l" pos="3921120"/>
                <a:tab algn="l" pos="4313160"/>
                <a:tab algn="l" pos="4705200"/>
                <a:tab algn="l" pos="5097600"/>
                <a:tab algn="l" pos="5489640"/>
                <a:tab algn="l" pos="5881680"/>
                <a:tab algn="l" pos="6273720"/>
                <a:tab algn="l" pos="6665760"/>
                <a:tab algn="l" pos="7058160"/>
                <a:tab algn="l" pos="7450200"/>
                <a:tab algn="l" pos="7842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680" y="793080"/>
            <a:ext cx="2409120" cy="43128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92040"/>
                <a:tab algn="l" pos="784080"/>
                <a:tab algn="l" pos="1176480"/>
                <a:tab algn="l" pos="1568520"/>
                <a:tab algn="l" pos="1960560"/>
                <a:tab algn="l" pos="2352600"/>
                <a:tab algn="l" pos="2744640"/>
                <a:tab algn="l" pos="3137040"/>
                <a:tab algn="l" pos="3529080"/>
                <a:tab algn="l" pos="3921120"/>
                <a:tab algn="l" pos="4313160"/>
                <a:tab algn="l" pos="4705200"/>
                <a:tab algn="l" pos="5097600"/>
                <a:tab algn="l" pos="5489640"/>
                <a:tab algn="l" pos="5881680"/>
                <a:tab algn="l" pos="6273720"/>
                <a:tab algn="l" pos="6665760"/>
                <a:tab algn="l" pos="7058160"/>
                <a:tab algn="l" pos="7450200"/>
                <a:tab algn="l" pos="7842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DFD4-E068-48DF-9F2C-45597376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680" y="5040"/>
            <a:ext cx="4937040" cy="32868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ctr">
            <a:noAutofit/>
          </a:bodyPr>
          <a:p>
            <a:pPr indent="0" algn="ctr">
              <a:buNone/>
              <a:tabLst>
                <a:tab algn="l" pos="0"/>
                <a:tab algn="l" pos="392040"/>
                <a:tab algn="l" pos="784080"/>
                <a:tab algn="l" pos="1176480"/>
                <a:tab algn="l" pos="1568520"/>
                <a:tab algn="l" pos="1960560"/>
                <a:tab algn="l" pos="2352600"/>
                <a:tab algn="l" pos="2744640"/>
                <a:tab algn="l" pos="3137040"/>
                <a:tab algn="l" pos="3529080"/>
                <a:tab algn="l" pos="3921120"/>
                <a:tab algn="l" pos="4313160"/>
                <a:tab algn="l" pos="4705200"/>
                <a:tab algn="l" pos="5097600"/>
                <a:tab algn="l" pos="5489640"/>
                <a:tab algn="l" pos="5881680"/>
                <a:tab algn="l" pos="6273720"/>
                <a:tab algn="l" pos="6665760"/>
                <a:tab algn="l" pos="7058160"/>
                <a:tab algn="l" pos="7450200"/>
                <a:tab algn="l" pos="7842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680" y="320400"/>
            <a:ext cx="2409120" cy="90468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92040"/>
                <a:tab algn="l" pos="784080"/>
                <a:tab algn="l" pos="1176480"/>
                <a:tab algn="l" pos="1568520"/>
                <a:tab algn="l" pos="1960560"/>
                <a:tab algn="l" pos="2352600"/>
                <a:tab algn="l" pos="2744640"/>
                <a:tab algn="l" pos="3137040"/>
                <a:tab algn="l" pos="3529080"/>
                <a:tab algn="l" pos="3921120"/>
                <a:tab algn="l" pos="4313160"/>
                <a:tab algn="l" pos="4705200"/>
                <a:tab algn="l" pos="5097600"/>
                <a:tab algn="l" pos="5489640"/>
                <a:tab algn="l" pos="5881680"/>
                <a:tab algn="l" pos="6273720"/>
                <a:tab algn="l" pos="6665760"/>
                <a:tab algn="l" pos="7058160"/>
                <a:tab algn="l" pos="7450200"/>
                <a:tab algn="l" pos="7842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04760" y="320400"/>
            <a:ext cx="2409120" cy="43128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92040"/>
                <a:tab algn="l" pos="784080"/>
                <a:tab algn="l" pos="1176480"/>
                <a:tab algn="l" pos="1568520"/>
                <a:tab algn="l" pos="1960560"/>
                <a:tab algn="l" pos="2352600"/>
                <a:tab algn="l" pos="2744640"/>
                <a:tab algn="l" pos="3137040"/>
                <a:tab algn="l" pos="3529080"/>
                <a:tab algn="l" pos="3921120"/>
                <a:tab algn="l" pos="4313160"/>
                <a:tab algn="l" pos="4705200"/>
                <a:tab algn="l" pos="5097600"/>
                <a:tab algn="l" pos="5489640"/>
                <a:tab algn="l" pos="5881680"/>
                <a:tab algn="l" pos="6273720"/>
                <a:tab algn="l" pos="6665760"/>
                <a:tab algn="l" pos="7058160"/>
                <a:tab algn="l" pos="7450200"/>
                <a:tab algn="l" pos="7842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04760" y="793080"/>
            <a:ext cx="2409120" cy="43128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92040"/>
                <a:tab algn="l" pos="784080"/>
                <a:tab algn="l" pos="1176480"/>
                <a:tab algn="l" pos="1568520"/>
                <a:tab algn="l" pos="1960560"/>
                <a:tab algn="l" pos="2352600"/>
                <a:tab algn="l" pos="2744640"/>
                <a:tab algn="l" pos="3137040"/>
                <a:tab algn="l" pos="3529080"/>
                <a:tab algn="l" pos="3921120"/>
                <a:tab algn="l" pos="4313160"/>
                <a:tab algn="l" pos="4705200"/>
                <a:tab algn="l" pos="5097600"/>
                <a:tab algn="l" pos="5489640"/>
                <a:tab algn="l" pos="5881680"/>
                <a:tab algn="l" pos="6273720"/>
                <a:tab algn="l" pos="6665760"/>
                <a:tab algn="l" pos="7058160"/>
                <a:tab algn="l" pos="7450200"/>
                <a:tab algn="l" pos="7842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0513-224F-490C-B0D7-CC8682B8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680" y="5040"/>
            <a:ext cx="4937040" cy="32868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ctr">
            <a:noAutofit/>
          </a:bodyPr>
          <a:p>
            <a:pPr indent="0" algn="ctr">
              <a:buNone/>
              <a:tabLst>
                <a:tab algn="l" pos="0"/>
                <a:tab algn="l" pos="392040"/>
                <a:tab algn="l" pos="784080"/>
                <a:tab algn="l" pos="1176480"/>
                <a:tab algn="l" pos="1568520"/>
                <a:tab algn="l" pos="1960560"/>
                <a:tab algn="l" pos="2352600"/>
                <a:tab algn="l" pos="2744640"/>
                <a:tab algn="l" pos="3137040"/>
                <a:tab algn="l" pos="3529080"/>
                <a:tab algn="l" pos="3921120"/>
                <a:tab algn="l" pos="4313160"/>
                <a:tab algn="l" pos="4705200"/>
                <a:tab algn="l" pos="5097600"/>
                <a:tab algn="l" pos="5489640"/>
                <a:tab algn="l" pos="5881680"/>
                <a:tab algn="l" pos="6273720"/>
                <a:tab algn="l" pos="6665760"/>
                <a:tab algn="l" pos="7058160"/>
                <a:tab algn="l" pos="7450200"/>
                <a:tab algn="l" pos="78422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680" y="320400"/>
            <a:ext cx="2409120" cy="43128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92040"/>
                <a:tab algn="l" pos="784080"/>
                <a:tab algn="l" pos="1176480"/>
                <a:tab algn="l" pos="1568520"/>
                <a:tab algn="l" pos="1960560"/>
                <a:tab algn="l" pos="2352600"/>
                <a:tab algn="l" pos="2744640"/>
                <a:tab algn="l" pos="3137040"/>
                <a:tab algn="l" pos="3529080"/>
                <a:tab algn="l" pos="3921120"/>
                <a:tab algn="l" pos="4313160"/>
                <a:tab algn="l" pos="4705200"/>
                <a:tab algn="l" pos="5097600"/>
                <a:tab algn="l" pos="5489640"/>
                <a:tab algn="l" pos="5881680"/>
                <a:tab algn="l" pos="6273720"/>
                <a:tab algn="l" pos="6665760"/>
                <a:tab algn="l" pos="7058160"/>
                <a:tab algn="l" pos="7450200"/>
                <a:tab algn="l" pos="7842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04760" y="320400"/>
            <a:ext cx="2409120" cy="43128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92040"/>
                <a:tab algn="l" pos="784080"/>
                <a:tab algn="l" pos="1176480"/>
                <a:tab algn="l" pos="1568520"/>
                <a:tab algn="l" pos="1960560"/>
                <a:tab algn="l" pos="2352600"/>
                <a:tab algn="l" pos="2744640"/>
                <a:tab algn="l" pos="3137040"/>
                <a:tab algn="l" pos="3529080"/>
                <a:tab algn="l" pos="3921120"/>
                <a:tab algn="l" pos="4313160"/>
                <a:tab algn="l" pos="4705200"/>
                <a:tab algn="l" pos="5097600"/>
                <a:tab algn="l" pos="5489640"/>
                <a:tab algn="l" pos="5881680"/>
                <a:tab algn="l" pos="6273720"/>
                <a:tab algn="l" pos="6665760"/>
                <a:tab algn="l" pos="7058160"/>
                <a:tab algn="l" pos="7450200"/>
                <a:tab algn="l" pos="7842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680" y="793080"/>
            <a:ext cx="4937040" cy="43128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392040"/>
                <a:tab algn="l" pos="784080"/>
                <a:tab algn="l" pos="1176480"/>
                <a:tab algn="l" pos="1568520"/>
                <a:tab algn="l" pos="1960560"/>
                <a:tab algn="l" pos="2352600"/>
                <a:tab algn="l" pos="2744640"/>
                <a:tab algn="l" pos="3137040"/>
                <a:tab algn="l" pos="3529080"/>
                <a:tab algn="l" pos="3921120"/>
                <a:tab algn="l" pos="4313160"/>
                <a:tab algn="l" pos="4705200"/>
                <a:tab algn="l" pos="5097600"/>
                <a:tab algn="l" pos="5489640"/>
                <a:tab algn="l" pos="5881680"/>
                <a:tab algn="l" pos="6273720"/>
                <a:tab algn="l" pos="6665760"/>
                <a:tab algn="l" pos="7058160"/>
                <a:tab algn="l" pos="7450200"/>
                <a:tab algn="l" pos="7842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76A0-653D-442D-A706-211BB1C6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4680" y="55080"/>
            <a:ext cx="4937040" cy="22860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ctr">
            <a:noAutofit/>
          </a:bodyPr>
          <a:p>
            <a:pPr indent="0" algn="ctr">
              <a:buNone/>
              <a:tabLst>
                <a:tab algn="l" pos="0"/>
                <a:tab algn="l" pos="392040"/>
                <a:tab algn="l" pos="784080"/>
                <a:tab algn="l" pos="1176480"/>
                <a:tab algn="l" pos="1568520"/>
                <a:tab algn="l" pos="1960560"/>
                <a:tab algn="l" pos="2352600"/>
                <a:tab algn="l" pos="2744640"/>
                <a:tab algn="l" pos="3137040"/>
                <a:tab algn="l" pos="3529080"/>
                <a:tab algn="l" pos="3921120"/>
                <a:tab algn="l" pos="4313160"/>
                <a:tab algn="l" pos="4705200"/>
                <a:tab algn="l" pos="5097600"/>
                <a:tab algn="l" pos="5489640"/>
                <a:tab algn="l" pos="5881680"/>
                <a:tab algn="l" pos="6273720"/>
                <a:tab algn="l" pos="6665760"/>
                <a:tab algn="l" pos="7058160"/>
                <a:tab algn="l" pos="7450200"/>
                <a:tab algn="l" pos="78422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680" y="320400"/>
            <a:ext cx="4937040" cy="90468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rmAutofit fontScale="49000"/>
          </a:bodyPr>
          <a:p>
            <a:pPr marL="72000" indent="-720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92040"/>
                <a:tab algn="l" pos="784080"/>
                <a:tab algn="l" pos="1176480"/>
                <a:tab algn="l" pos="1568520"/>
                <a:tab algn="l" pos="1960560"/>
                <a:tab algn="l" pos="2352600"/>
                <a:tab algn="l" pos="2744640"/>
                <a:tab algn="l" pos="3137040"/>
                <a:tab algn="l" pos="3529080"/>
                <a:tab algn="l" pos="3921120"/>
                <a:tab algn="l" pos="4313160"/>
                <a:tab algn="l" pos="4705200"/>
                <a:tab algn="l" pos="5097600"/>
                <a:tab algn="l" pos="5489640"/>
                <a:tab algn="l" pos="5881680"/>
                <a:tab algn="l" pos="6273720"/>
                <a:tab algn="l" pos="6665760"/>
                <a:tab algn="l" pos="7058160"/>
                <a:tab algn="l" pos="7450200"/>
                <a:tab algn="l" pos="7842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56240" indent="-60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392040"/>
                <a:tab algn="l" pos="784080"/>
                <a:tab algn="l" pos="1176480"/>
                <a:tab algn="l" pos="1568520"/>
                <a:tab algn="l" pos="1960560"/>
                <a:tab algn="l" pos="2352600"/>
                <a:tab algn="l" pos="2744640"/>
                <a:tab algn="l" pos="3137040"/>
                <a:tab algn="l" pos="3529080"/>
                <a:tab algn="l" pos="3921120"/>
                <a:tab algn="l" pos="4313160"/>
                <a:tab algn="l" pos="4705200"/>
                <a:tab algn="l" pos="5097600"/>
                <a:tab algn="l" pos="5489640"/>
                <a:tab algn="l" pos="5881680"/>
                <a:tab algn="l" pos="6273720"/>
                <a:tab algn="l" pos="6665760"/>
                <a:tab algn="l" pos="7058160"/>
                <a:tab algn="l" pos="7450200"/>
                <a:tab algn="l" pos="7842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40120" indent="-482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392040"/>
                <a:tab algn="l" pos="784080"/>
                <a:tab algn="l" pos="1176480"/>
                <a:tab algn="l" pos="1568520"/>
                <a:tab algn="l" pos="1960560"/>
                <a:tab algn="l" pos="2352600"/>
                <a:tab algn="l" pos="2744640"/>
                <a:tab algn="l" pos="3137040"/>
                <a:tab algn="l" pos="3529080"/>
                <a:tab algn="l" pos="3921120"/>
                <a:tab algn="l" pos="4313160"/>
                <a:tab algn="l" pos="4705200"/>
                <a:tab algn="l" pos="5097600"/>
                <a:tab algn="l" pos="5489640"/>
                <a:tab algn="l" pos="5881680"/>
                <a:tab algn="l" pos="6273720"/>
                <a:tab algn="l" pos="6665760"/>
                <a:tab algn="l" pos="7058160"/>
                <a:tab algn="l" pos="7450200"/>
                <a:tab algn="l" pos="7842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35880" indent="-478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392040"/>
                <a:tab algn="l" pos="784080"/>
                <a:tab algn="l" pos="1176480"/>
                <a:tab algn="l" pos="1568520"/>
                <a:tab algn="l" pos="1960560"/>
                <a:tab algn="l" pos="2352600"/>
                <a:tab algn="l" pos="2744640"/>
                <a:tab algn="l" pos="3137040"/>
                <a:tab algn="l" pos="3529080"/>
                <a:tab algn="l" pos="3921120"/>
                <a:tab algn="l" pos="4313160"/>
                <a:tab algn="l" pos="4705200"/>
                <a:tab algn="l" pos="5097600"/>
                <a:tab algn="l" pos="5489640"/>
                <a:tab algn="l" pos="5881680"/>
                <a:tab algn="l" pos="6273720"/>
                <a:tab algn="l" pos="6665760"/>
                <a:tab algn="l" pos="7058160"/>
                <a:tab algn="l" pos="7450200"/>
                <a:tab algn="l" pos="7842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431640" indent="-471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392040"/>
                <a:tab algn="l" pos="784080"/>
                <a:tab algn="l" pos="1176480"/>
                <a:tab algn="l" pos="1568520"/>
                <a:tab algn="l" pos="1960560"/>
                <a:tab algn="l" pos="2352600"/>
                <a:tab algn="l" pos="2744640"/>
                <a:tab algn="l" pos="3137040"/>
                <a:tab algn="l" pos="3529080"/>
                <a:tab algn="l" pos="3921120"/>
                <a:tab algn="l" pos="4313160"/>
                <a:tab algn="l" pos="4705200"/>
                <a:tab algn="l" pos="5097600"/>
                <a:tab algn="l" pos="5489640"/>
                <a:tab algn="l" pos="5881680"/>
                <a:tab algn="l" pos="6273720"/>
                <a:tab algn="l" pos="6665760"/>
                <a:tab algn="l" pos="7058160"/>
                <a:tab algn="l" pos="7450200"/>
                <a:tab algn="l" pos="7842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431640" indent="-471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392040"/>
                <a:tab algn="l" pos="784080"/>
                <a:tab algn="l" pos="1176480"/>
                <a:tab algn="l" pos="1568520"/>
                <a:tab algn="l" pos="1960560"/>
                <a:tab algn="l" pos="2352600"/>
                <a:tab algn="l" pos="2744640"/>
                <a:tab algn="l" pos="3137040"/>
                <a:tab algn="l" pos="3529080"/>
                <a:tab algn="l" pos="3921120"/>
                <a:tab algn="l" pos="4313160"/>
                <a:tab algn="l" pos="4705200"/>
                <a:tab algn="l" pos="5097600"/>
                <a:tab algn="l" pos="5489640"/>
                <a:tab algn="l" pos="5881680"/>
                <a:tab algn="l" pos="6273720"/>
                <a:tab algn="l" pos="6665760"/>
                <a:tab algn="l" pos="7058160"/>
                <a:tab algn="l" pos="7450200"/>
                <a:tab algn="l" pos="7842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431640" indent="-471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392040"/>
                <a:tab algn="l" pos="784080"/>
                <a:tab algn="l" pos="1176480"/>
                <a:tab algn="l" pos="1568520"/>
                <a:tab algn="l" pos="1960560"/>
                <a:tab algn="l" pos="2352600"/>
                <a:tab algn="l" pos="2744640"/>
                <a:tab algn="l" pos="3137040"/>
                <a:tab algn="l" pos="3529080"/>
                <a:tab algn="l" pos="3921120"/>
                <a:tab algn="l" pos="4313160"/>
                <a:tab algn="l" pos="4705200"/>
                <a:tab algn="l" pos="5097600"/>
                <a:tab algn="l" pos="5489640"/>
                <a:tab algn="l" pos="5881680"/>
                <a:tab algn="l" pos="6273720"/>
                <a:tab algn="l" pos="6665760"/>
                <a:tab algn="l" pos="7058160"/>
                <a:tab algn="l" pos="7450200"/>
                <a:tab algn="l" pos="7842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74680" y="1248840"/>
            <a:ext cx="1279440" cy="9540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Autofit/>
          </a:bodyPr>
          <a:lstStyle>
            <a:lvl1pPr indent="0">
              <a:buNone/>
              <a:tabLst>
                <a:tab algn="l" pos="0"/>
                <a:tab algn="l" pos="392040"/>
                <a:tab algn="l" pos="784080"/>
                <a:tab algn="l" pos="1176480"/>
                <a:tab algn="l" pos="1568520"/>
                <a:tab algn="l" pos="1960560"/>
                <a:tab algn="l" pos="2352600"/>
                <a:tab algn="l" pos="2744640"/>
                <a:tab algn="l" pos="3137040"/>
                <a:tab algn="l" pos="3529080"/>
                <a:tab algn="l" pos="3921120"/>
                <a:tab algn="l" pos="4313160"/>
                <a:tab algn="l" pos="4705200"/>
                <a:tab algn="l" pos="5097600"/>
                <a:tab algn="l" pos="5489640"/>
                <a:tab algn="l" pos="5881680"/>
                <a:tab algn="l" pos="6273720"/>
                <a:tab algn="l" pos="6665760"/>
                <a:tab algn="l" pos="7058160"/>
                <a:tab algn="l" pos="7450200"/>
                <a:tab algn="l" pos="784224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92040"/>
                <a:tab algn="l" pos="784080"/>
                <a:tab algn="l" pos="1176480"/>
                <a:tab algn="l" pos="1568520"/>
                <a:tab algn="l" pos="1960560"/>
                <a:tab algn="l" pos="2352600"/>
                <a:tab algn="l" pos="2744640"/>
                <a:tab algn="l" pos="3137040"/>
                <a:tab algn="l" pos="3529080"/>
                <a:tab algn="l" pos="3921120"/>
                <a:tab algn="l" pos="4313160"/>
                <a:tab algn="l" pos="4705200"/>
                <a:tab algn="l" pos="5097600"/>
                <a:tab algn="l" pos="5489640"/>
                <a:tab algn="l" pos="5881680"/>
                <a:tab algn="l" pos="6273720"/>
                <a:tab algn="l" pos="6665760"/>
                <a:tab algn="l" pos="7058160"/>
                <a:tab algn="l" pos="7450200"/>
                <a:tab algn="l" pos="7842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74880" y="1248840"/>
            <a:ext cx="1736640" cy="9540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Autofit/>
          </a:bodyPr>
          <a:lstStyle>
            <a:lvl1pPr indent="0" algn="ctr">
              <a:buNone/>
              <a:tabLst>
                <a:tab algn="l" pos="0"/>
                <a:tab algn="l" pos="392040"/>
                <a:tab algn="l" pos="784080"/>
                <a:tab algn="l" pos="1176480"/>
                <a:tab algn="l" pos="1568520"/>
                <a:tab algn="l" pos="1960560"/>
                <a:tab algn="l" pos="2352600"/>
                <a:tab algn="l" pos="2744640"/>
                <a:tab algn="l" pos="3137040"/>
                <a:tab algn="l" pos="3529080"/>
                <a:tab algn="l" pos="3921120"/>
                <a:tab algn="l" pos="4313160"/>
                <a:tab algn="l" pos="4705200"/>
                <a:tab algn="l" pos="5097600"/>
                <a:tab algn="l" pos="5489640"/>
                <a:tab algn="l" pos="5881680"/>
                <a:tab algn="l" pos="6273720"/>
                <a:tab algn="l" pos="6665760"/>
                <a:tab algn="l" pos="7058160"/>
                <a:tab algn="l" pos="7450200"/>
                <a:tab algn="l" pos="784224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92040"/>
                <a:tab algn="l" pos="784080"/>
                <a:tab algn="l" pos="1176480"/>
                <a:tab algn="l" pos="1568520"/>
                <a:tab algn="l" pos="1960560"/>
                <a:tab algn="l" pos="2352600"/>
                <a:tab algn="l" pos="2744640"/>
                <a:tab algn="l" pos="3137040"/>
                <a:tab algn="l" pos="3529080"/>
                <a:tab algn="l" pos="3921120"/>
                <a:tab algn="l" pos="4313160"/>
                <a:tab algn="l" pos="4705200"/>
                <a:tab algn="l" pos="5097600"/>
                <a:tab algn="l" pos="5489640"/>
                <a:tab algn="l" pos="5881680"/>
                <a:tab algn="l" pos="6273720"/>
                <a:tab algn="l" pos="6665760"/>
                <a:tab algn="l" pos="7058160"/>
                <a:tab algn="l" pos="7450200"/>
                <a:tab algn="l" pos="7842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932280" y="1248840"/>
            <a:ext cx="1279440" cy="95400"/>
          </a:xfrm>
          <a:prstGeom prst="rect">
            <a:avLst/>
          </a:prstGeom>
          <a:noFill/>
          <a:ln w="0">
            <a:noFill/>
          </a:ln>
        </p:spPr>
        <p:txBody>
          <a:bodyPr lIns="39240" rIns="39240" tIns="19440" bIns="19440" anchor="t">
            <a:noAutofit/>
          </a:bodyPr>
          <a:lstStyle>
            <a:lvl1pPr indent="0" algn="r">
              <a:buNone/>
              <a:tabLst>
                <a:tab algn="l" pos="0"/>
                <a:tab algn="l" pos="392040"/>
                <a:tab algn="l" pos="784080"/>
                <a:tab algn="l" pos="1176480"/>
                <a:tab algn="l" pos="1568520"/>
                <a:tab algn="l" pos="1960560"/>
                <a:tab algn="l" pos="2352600"/>
                <a:tab algn="l" pos="2744640"/>
                <a:tab algn="l" pos="3137040"/>
                <a:tab algn="l" pos="3529080"/>
                <a:tab algn="l" pos="3921120"/>
                <a:tab algn="l" pos="4313160"/>
                <a:tab algn="l" pos="4705200"/>
                <a:tab algn="l" pos="5097600"/>
                <a:tab algn="l" pos="5489640"/>
                <a:tab algn="l" pos="5881680"/>
                <a:tab algn="l" pos="6273720"/>
                <a:tab algn="l" pos="6665760"/>
                <a:tab algn="l" pos="7058160"/>
                <a:tab algn="l" pos="7450200"/>
                <a:tab algn="l" pos="784224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92040"/>
                <a:tab algn="l" pos="784080"/>
                <a:tab algn="l" pos="1176480"/>
                <a:tab algn="l" pos="1568520"/>
                <a:tab algn="l" pos="1960560"/>
                <a:tab algn="l" pos="2352600"/>
                <a:tab algn="l" pos="2744640"/>
                <a:tab algn="l" pos="3137040"/>
                <a:tab algn="l" pos="3529080"/>
                <a:tab algn="l" pos="3921120"/>
                <a:tab algn="l" pos="4313160"/>
                <a:tab algn="l" pos="4705200"/>
                <a:tab algn="l" pos="5097600"/>
                <a:tab algn="l" pos="5489640"/>
                <a:tab algn="l" pos="5881680"/>
                <a:tab algn="l" pos="6273720"/>
                <a:tab algn="l" pos="6665760"/>
                <a:tab algn="l" pos="7058160"/>
                <a:tab algn="l" pos="7450200"/>
                <a:tab algn="l" pos="7842240"/>
              </a:tabLst>
            </a:pPr>
            <a:fld id="{9752FDF3-5130-4D92-B80F-112DEF2D6292}" type="slidenum">
              <a:rPr b="0" lang="en-US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76320"/>
            <a:ext cx="92088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71600" y="76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743200" y="76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038480" y="76320"/>
            <a:ext cx="114300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7:42:47Z</dcterms:created>
  <dc:creator>JMARCH</dc:creator>
  <dc:description/>
  <dc:language>en-US</dc:language>
  <cp:lastModifiedBy>JMARCH</cp:lastModifiedBy>
  <dcterms:modified xsi:type="dcterms:W3CDTF">2010-03-21T17:46:21Z</dcterms:modified>
  <cp:revision>2</cp:revision>
  <dc:subject/>
  <dc:title>Slide 1</dc:title>
</cp:coreProperties>
</file>